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18F0-EC3D-4D4E-BF13-A142E257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E25A-977E-4E1F-84A3-A3497A1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7B78-E0EA-4C25-9E2F-E1AF687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ACD9-81A3-43BB-BAA4-0B1D4B05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C3B1-8803-44F1-811C-344A38D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B90D-FA98-452B-B6F2-04609463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57F1-6A76-49C0-B18B-2349DC8F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FAB-C562-4F55-A8B0-9D3AC495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8898-3A59-409D-9689-C6EAE773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D285-4CE0-49DA-8F44-B519D6E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524-F8DD-41A7-920D-6041625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0374-0500-4425-8625-B0A092E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495-A298-4E7C-88C2-4C55103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5574-5D99-4B3E-8894-ED3F1D6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67C-FA79-4490-A557-D4775C4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9DE-3829-4569-A8E5-BFCBC6A8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587-47E5-4FEB-9AAA-F024F63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40AA-3FB0-4F8F-92CF-F1D9C02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8420-A720-4CF5-A0C9-41BA8821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0C28-E51C-4DE4-B42E-A488212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A677-7FD3-47C0-B239-A1F0F22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DD5-54D2-4CD1-856B-779D46B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2581-2055-4D35-8750-85872BB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2399-6705-4950-A2AA-B68571A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3D80-9274-4E67-B1E5-470418C67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098-038F-419B-ADF0-A82C0ACE9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Our PLT Research Question: </a:t>
            </a: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How can I create an environment where students feel comfortable and confident enough to offer their own ideas, opinions, reasons, questions and suggestions and believe that these are valued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hleen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da 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riana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remy Mo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iel 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y V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e V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olcano – Ready to erupt. Speaks before carefully considering what they are saying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$$$ - everyone’s opinion is valued and considered before conclusions are made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59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alking the tightrope – Be prepared to take a risk and involve yourself.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isherman – Waits patiently before sharing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Leech – Sucks the blood out of everyone else’s ideas. Takes information but doesn’t contribut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nningD</cp:lastModifiedBy>
  <dcterms:modified xsi:type="dcterms:W3CDTF">2009-04-01T21:34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